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F342-5432-4535-821B-8BCD2C84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347C-8DF4-4C48-A2EF-09F38CD4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74DC-9DD7-4C8F-BE60-618832DD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34C3-169B-4BA2-939A-BE82AC87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4B5-881A-43DE-9FD3-57CFC41B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4BAC-EEBD-4545-8D71-3CC379FB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4896-4847-46B1-B6F9-D4482802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C04B-0A92-49F1-820C-BCAB237F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33D6-5F10-451A-9FED-07DC15AA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E941-5E5C-4400-BA74-9FD828A6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09D2-28E7-4289-A110-A819399B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8B26-CB5F-4CE4-9203-79A7F2A2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183B-0CDB-4E00-A5CF-5651095B1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einhard.Eidelsburger@juzo.de" TargetMode="External"/><Relationship Id="rId2" Type="http://schemas.openxmlformats.org/officeDocument/2006/relationships/hyperlink" Target="http://www.it-universum.de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91440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rojekt: Wareneingangsprüfung von Reinhard Eidelsburger                                   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0056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51920" y="3060720"/>
            <a:ext cx="246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ius Zorn Gmb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iusplatz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6551 Aich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4040" y="3095640"/>
            <a:ext cx="410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inhard Eidelsbu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Reinhard.Eidelsburger@juzo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it-universum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590920" y="1190520"/>
            <a:ext cx="4038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6553080"/>
            <a:ext cx="91440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rojekt: Wareneingangsprüfung von Reinhard Eidelsburger                                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0056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96080" y="152280"/>
            <a:ext cx="1219320" cy="609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60" y="101520"/>
            <a:ext cx="245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L-Analy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zwerkdiagra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technische%20umgebung" descr=""/>
          <p:cNvPicPr/>
          <p:nvPr/>
        </p:nvPicPr>
        <p:blipFill>
          <a:blip r:embed="rId2"/>
          <a:stretch/>
        </p:blipFill>
        <p:spPr>
          <a:xfrm>
            <a:off x="426960" y="914400"/>
            <a:ext cx="82598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553080"/>
            <a:ext cx="91440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rojekt: Wareneingangsprüfung von Reinhard Eidelsburger                                     1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0056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96080" y="152280"/>
            <a:ext cx="1219320" cy="609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1452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6840" y="76320"/>
            <a:ext cx="373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totypenentwick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bellenstruk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6545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el der Prototypenentwicklung: Überzeugung der Fachabtei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4" descr=""/>
          <p:cNvPicPr/>
          <p:nvPr/>
        </p:nvPicPr>
        <p:blipFill>
          <a:blip r:embed="rId2"/>
          <a:stretch/>
        </p:blipFill>
        <p:spPr>
          <a:xfrm>
            <a:off x="380880" y="1184400"/>
            <a:ext cx="7794720" cy="4606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553080"/>
            <a:ext cx="91440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rojekt: Wareneingangsprüfung von Reinhard Eidelsburger                                    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0056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96080" y="152280"/>
            <a:ext cx="1219320" cy="609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51452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20" y="101520"/>
            <a:ext cx="373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totypenentwick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rtbildsch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1" descr=""/>
          <p:cNvPicPr/>
          <p:nvPr/>
        </p:nvPicPr>
        <p:blipFill>
          <a:blip r:embed="rId2"/>
          <a:stretch/>
        </p:blipFill>
        <p:spPr>
          <a:xfrm>
            <a:off x="1131840" y="1558800"/>
            <a:ext cx="6869160" cy="3851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6553080"/>
            <a:ext cx="91440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rojekt: Wareneingangsprüfung von Reinhard Eidelsburger                                    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0056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96080" y="152280"/>
            <a:ext cx="1219320" cy="609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048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20" y="101520"/>
            <a:ext cx="373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totypenentwick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fassung der Kopf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2" descr=""/>
          <p:cNvPicPr/>
          <p:nvPr/>
        </p:nvPicPr>
        <p:blipFill>
          <a:blip r:embed="rId2"/>
          <a:stretch/>
        </p:blipFill>
        <p:spPr>
          <a:xfrm>
            <a:off x="1143000" y="1401840"/>
            <a:ext cx="6858000" cy="438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6553080"/>
            <a:ext cx="91440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rojekt: Wareneingangsprüfung von Reinhard Eidelsburger                                     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0056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696080" y="152280"/>
            <a:ext cx="1219320" cy="609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95520" y="-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7560" y="101520"/>
            <a:ext cx="46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totypenentwick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rengruppenformular (Teilausschni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3" descr=""/>
          <p:cNvPicPr/>
          <p:nvPr/>
        </p:nvPicPr>
        <p:blipFill>
          <a:blip r:embed="rId2"/>
          <a:stretch/>
        </p:blipFill>
        <p:spPr>
          <a:xfrm>
            <a:off x="777960" y="1608120"/>
            <a:ext cx="7451640" cy="372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6553080"/>
            <a:ext cx="91440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rojekt: Wareneingangsprüfung von Reinhard Eidelsburger                                    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0056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96080" y="152280"/>
            <a:ext cx="1219320" cy="609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880" y="101520"/>
            <a:ext cx="365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rgebnis und 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1080" y="1336680"/>
            <a:ext cx="810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habteilung überzeu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V und Fachabteilung: Entwicklung des Program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satz der Wareneingansprüfung in 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eneingangsbereichen und Außenlag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bau der Wareneingangsprüfung für eine Oracle-Datenban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ecks der Datenm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sche Auswertungen über die Wareneingangsprüf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ür Lieferantenverhandl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Qualitätssich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553080"/>
            <a:ext cx="91440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rojekt: Wareneingangsprüfung von Reinhard Eidelsburger                                    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0056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96080" y="152280"/>
            <a:ext cx="1219320" cy="609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198108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stellen eines Pflichtenheftes für ein Programm zur Wareneingangskontro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553080"/>
            <a:ext cx="91440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rojekt: Wareneingangsprüfung von Reinhard Eidelsburger                                     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0056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96080" y="152280"/>
            <a:ext cx="1219320" cy="609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" y="10152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menübers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5720" y="114300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leitung und Problem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9960" y="1558800"/>
            <a:ext cx="449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-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achliche 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nalyse der eingesetzten ED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9240" y="2701800"/>
            <a:ext cx="448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L-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ojektziel und Grundfun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ojektverla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tzwerkdiagr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0040" y="5410080"/>
            <a:ext cx="32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gebnis und Ausb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8960" y="4191120"/>
            <a:ext cx="392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wicklung des Prototy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77240" y="4572000"/>
            <a:ext cx="24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atenstru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6520" y="49528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ogramm-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553080"/>
            <a:ext cx="91440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rojekt: Wareneingangsprüfung von Reinhard Eidelsburger                                      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0056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96080" y="152280"/>
            <a:ext cx="1219320" cy="609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20" y="101520"/>
            <a:ext cx="502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inleitung und Problemstel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inl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1840" y="1828800"/>
            <a:ext cx="756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zo GmbH ist ein Unternehmen in der Hilfsmittelb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uptprodukte: - med. Kompressionsstrümp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rth. Band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chuhe (über Tochter in Sachsen-Anha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6080" y="4114800"/>
            <a:ext cx="71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strategisches Ziel: die Marktführerschaft zu verteid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9320" y="3429000"/>
            <a:ext cx="77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uzo GmbH wird auf dem Markt als Qualitätsführer gese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6553080"/>
            <a:ext cx="91440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rojekt: Wareneingangsprüfung von Reinhard Eidelsburger                         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0056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96080" y="152280"/>
            <a:ext cx="1219320" cy="609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20" y="101520"/>
            <a:ext cx="502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inleitung und Problemstel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blemstel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8440" y="5273640"/>
            <a:ext cx="77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eneingangskontrolle ist sehr aufwendig und muss da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zier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5400" y="1143000"/>
            <a:ext cx="7773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bleme der heutigen Wareneingangskontrol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Große Artikelauswahl d.h hohe Anzahl an verschiede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efera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verschiedene Prüfkriter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ersonal ist nicht in der Lage alle fachlichen Kriterien 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dächtnis zu beh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n unserem Haus gibt es SAP ohne QM-Modul d.h geri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ertungsmöglichkeiten bei der Wareneingangsprüf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6553080"/>
            <a:ext cx="91440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rojekt: Wareneingangsprüfung von Reinhard Eidelsburger                                      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0056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96080" y="152280"/>
            <a:ext cx="1219320" cy="609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440" y="10152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ST-Analy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hliche 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0640" y="4314960"/>
            <a:ext cx="385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gengerü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zahl  Lieferanten: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zahl Artikel: 1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zahl Wareneingänge: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0120" y="1695600"/>
            <a:ext cx="869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uzo GmbH ist ISO-9000 zertifiz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urch einen internen Audit wurden alle Abteilungen analysi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z.B. Fehler oder Schwierigkeiten in der Wareneingangsprüf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estgestel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- Ziel: eine flexible EDV-gestützte Wareneingangsprüf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6553080"/>
            <a:ext cx="91440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rojekt: Wareneingangsprüfung von Reinhard Eidelsburger                                      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0056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96080" y="152280"/>
            <a:ext cx="1219320" cy="609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3960" y="101520"/>
            <a:ext cx="34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ST-Analy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alyse der eingesetzten ED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9960" y="1879560"/>
            <a:ext cx="8093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AP 4.0b (Wareneingangsprüfung wäre mit Modul Q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ögli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satz des 30.000 DM teuren Moduls ist nicht rent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reneingangsprüfung soll mit Standardbüro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alisier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 Benutzerfreundlich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 Kompatibilität zu Excel wegen Auswer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 Lager rudimentär mit PCs ausgestat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6553080"/>
            <a:ext cx="91440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rojekt: Wareneingangsprüfung von Reinhard Eidelsburger                                      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0056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96080" y="152280"/>
            <a:ext cx="1219320" cy="609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-5760" y="101520"/>
            <a:ext cx="359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L-Analy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jektziel und Grundfun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523880"/>
            <a:ext cx="757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jektz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wicklung einer EDV-gestützten Wareneingangsprüf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genentwicklung durch die EDV-Abtei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640" y="2895480"/>
            <a:ext cx="7014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undfunk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gabe der Kriterien und Op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gabe eines Prüfbele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vierung und Auswer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wendige Hardw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evtl. Oracle Datenbank (später nach Testph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s in jedem L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6553080"/>
            <a:ext cx="91440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rojekt: Wareneingangsprüfung von Reinhard Eidelsburger                                     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0056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96080" y="152280"/>
            <a:ext cx="1219320" cy="609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160" y="101520"/>
            <a:ext cx="245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L-Analy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jektverla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8160" y="1371600"/>
            <a:ext cx="649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trag der Geschäftslei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e der System- und fachlichen Umgeb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L-Analyse, Fachkonzeption, Pflichtenh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igabe des Pflichtenhef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stellen des Prototy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igabe des Prototy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führung des Echt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kumentation der Projektarb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0880" y="5181480"/>
            <a:ext cx="579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wierigkeiten bei der Terminkoord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stellen des Fachkonzep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7:19:25Z</dcterms:created>
  <dc:creator>Reinhard Eidelsburgef</dc:creator>
  <dc:description/>
  <dc:language>en-US</dc:language>
  <cp:lastModifiedBy>Reinhard Eidelsburger</cp:lastModifiedBy>
  <dcterms:modified xsi:type="dcterms:W3CDTF">2000-07-12T12:39:44Z</dcterms:modified>
  <cp:revision>24</cp:revision>
  <dc:subject/>
  <dc:title>Schnurlose und Schnurgebundene ISDN-Telefone</dc:title>
</cp:coreProperties>
</file>